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22BD-720D-4CBA-96B2-CA5D4A8E5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16D9-FC9F-4413-9956-445D48F3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C6BD-7A14-4E96-8E7E-D47211A34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FDFF-3FF4-48D5-9E1B-61BB116F5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188B-3218-4DE5-B89E-5085F5C9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630C-B8E1-436B-9F9E-4ACCD156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382C-B537-4A7C-8E41-9629FFD2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5B4C-1C65-4376-8509-B8292A46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F741-3C66-4E65-8B34-D55A9204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0DB7-57AF-4DC1-B73D-737951CE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CA93-9BB0-4806-ABC4-545ACEEC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A23E-9386-41B7-B6D5-DF9AD790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3812-912E-443B-98ED-9D986FA56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RUSSIA’S  ECONOM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y Allessandra Toscanini and Dar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D PRODUCED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ato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ar b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ok Antiqua"/>
              </a:rPr>
              <a:t>Manufactur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t. Petersburg is a shipbuilding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ost manufacturing centers are in western 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actories focus on heavy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ome factories switched to light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actories in St. Petersburg make light machinery, textiles, and scientific and medical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OSCOW RE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cow is the country’s economic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on making goods such as machinery, mining equipment, and st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er industries include textiles, electrical equipment, and automob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 factories make more consumer goods, or household and electronics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3:52:05Z</dcterms:created>
  <dc:creator> </dc:creator>
  <dc:description/>
  <dc:language>en-US</dc:language>
  <cp:lastModifiedBy> </cp:lastModifiedBy>
  <dcterms:modified xsi:type="dcterms:W3CDTF">2010-12-14T14:23:23Z</dcterms:modified>
  <cp:revision>2</cp:revision>
  <dc:subject/>
  <dc:title>RUSSIA’S  ECONOMY</dc:title>
</cp:coreProperties>
</file>